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6084-46F6-483F-AD6E-70AC5D7E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2C8-FBDD-4042-83DC-6253E89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F9A-B54D-4D2A-8C7E-9A31696D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2110-7F20-40BF-86D5-9A45A053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5E86-9C4A-46BA-A9E6-14EBF52B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2789-1F1B-4800-8F1D-6B0D2BE0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C32B-9929-4FBE-959D-6DD628DB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AABB-92AA-4958-87FE-CC07289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16D9-0D5C-4083-BD0E-83A54898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003E-3B62-4767-B1D5-A13E63E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3F0C-B67B-4740-BFD4-14BAF30C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641-EF0F-42F8-B871-7682A55D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01A2-8F00-42DA-A845-6A88F651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6B60-2A52-4700-BD64-AA9FD7E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9145-3BCA-4C4A-9224-5C28931B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8EB9-371E-482A-B849-8B9E558A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AE38-98D0-426D-9E7C-B06666A9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A8226-D7C7-474A-B48B-BFEB0A11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D199-E658-4503-85A6-61DCB9B7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D38D-8525-4B8F-8BBB-2F0ED9ED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FA462-13B6-4E66-8F4D-0A844BB8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179C-6793-441C-AFB5-CFA79D2E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934-9DF6-41B1-BE1E-0C6DB86D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CDDEC-1AB9-4488-A0D0-E311DEC5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63A5B-17C3-4310-8E52-DF481E9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865E-14EE-42F2-A7EB-568D7BD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A4DFE-7B8A-4C50-B1D0-1E758AD4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0888-E47B-4761-B602-C076EDFA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1533-825F-430C-94C2-571F807C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BD6D5-93D7-4231-8D9D-7075EE20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8CB4A-4FAE-4848-90FC-83F3461A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9320-0A64-4D4C-9013-FEE50D01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DE69F-E481-4038-9DE7-A21FD6F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E31-A3CB-4C4D-96E0-D35C58E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5BF5-067D-4A2F-92B7-028766BB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565F0-23A4-4A5F-B70E-B7617EFA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34A4-E9B9-4629-8256-FD2F737B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0D6D2-58D6-4FFE-BFCA-65869A4F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5943B-7AE3-4FEF-BF14-8871D473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DBA9-41A1-4321-BEE6-ED79C07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F7EF-CC94-4AD3-951D-39676487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629FB-DB43-45E7-8F16-987D2047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2E92-9FCD-4C9F-B46D-39538AEE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C71FA-E1A3-4748-8CC2-3D924624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65B-E050-44F5-AE65-AE684819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8C252-906C-4FE4-A6DE-AA662DA9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75CF4-D098-43FA-9F02-7D3FCA50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AA21E-180B-431C-9540-7C41C908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5BAB9-ECD8-4179-812C-04605111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201A1-6DDD-4285-9629-421BE2AE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95EC5-217B-4453-B5D5-FE3AFA54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04130-9F1E-4E97-A994-32668327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C3B00-4410-45DF-B4E6-F1E4E600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81503-AAC6-44A1-8D3A-28B6AA75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C2D9-9767-4CDB-BC5D-292A5951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5CCC-A36F-4C8F-B32A-981BB235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55A36-BB08-4DA5-8D2C-C5E0ACEB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1FF2E-4C76-4CFB-A6F5-56C24695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32DB4-C3FB-4A09-8020-32782D32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4331B-197F-4B55-A50A-01917EC6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0E9F8-A431-4FF9-93FF-A81373C8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4A4FB-2797-4AB5-95E3-FCF527B7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CF75-6BA6-4067-AA85-2A926700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B8DD2-BA35-4242-8BEE-AA31E83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90BC2-B8E9-405E-9DA6-F1472D14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91B4-7FE0-4EC1-A863-C6D275F7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5CF-0F94-48BD-BDB1-14094C43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FF5BA-2D68-46D2-AB8F-5A6DC29D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73DCB-F66D-4786-9B55-166FD47C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F008E-CF79-4CEB-9E56-E85D230E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0C93-417B-4679-9432-6972A6C6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CABBA-E945-4630-852C-B4B838F9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BD045-4A29-4697-9895-99B9DD3F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BCC13-FD14-4C6B-8F5E-C7443824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B1D06-24ED-4A26-810D-A4AD8A23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5205A-D0B1-4FD5-82CC-2F177706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AB869-E9F0-449B-9598-0322D67B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8AF-45F3-4C8F-85E7-48CB730D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15A9-2DC0-4F74-9F66-091649FB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6C56B-0E62-4A7B-BA23-23ED2664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6F8F7-9FE5-4497-9476-22273804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84C8-0D58-4AB6-9423-89D55E87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8383F-0C93-44B3-BCA7-9ED48436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E06B-FEC7-4FFA-8932-C4083E74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D16F8-0F56-4ABF-8098-5850CD91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A0D4A-78FB-4D6B-A164-F84ECF41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7A3C5-AA9A-4A2E-86BF-98C1D9E6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0A9F1-B72E-46DE-A368-FDC199B7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D2E-EECD-4759-BE9A-4DF90270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270B7-6E80-4E9B-BB4E-A34B0445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AFF14-68D3-4286-8AF7-F592C6BC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13BE-7FB1-41D8-9FEE-3E8C7AE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76E90-B525-4DC1-B783-F3FC9B2E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06A45-DA2D-4587-9616-DBF39BAB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EF9A0-C15A-4AAC-BEDE-280050FD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D306-7527-46E1-B36A-02857436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94ED-3FC0-4899-A1FC-02AEB4994C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FF0F-DB19-4EDC-B70B-236B8CF6AB5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7D9E-1EA8-4250-AF96-FF16676576B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CA1B-0D9C-4D15-B148-A8F64CB76A4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265A-9213-44B8-8C61-126ABB31C6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451D-4BAB-4425-BADC-D55CB222D7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41F1-D7BB-4684-A9E1-752782EF3B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56D-337A-4228-8F1A-6097AB20F61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an and his mother and father arrived at the zoo at 3:00 P.M. when the whale show started.  They paid $3 each to get in the zoo.  They each paid another $2 to see the whale show.  Then they counted 36 monkeys in the monkey exhibit, 19 storks in the tropical display and left at 5:00 P.M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2" descr=""/>
          <p:cNvPicPr/>
          <p:nvPr/>
        </p:nvPicPr>
        <p:blipFill>
          <a:blip r:embed="rId1"/>
          <a:stretch/>
        </p:blipFill>
        <p:spPr>
          <a:xfrm>
            <a:off x="450720" y="341280"/>
            <a:ext cx="82425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294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long were Alan and his parents at the zoo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hat is the total amount of money that Alan and his mother and father spent at the zoo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many more monkeys did they count than stork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an’s father paid for them to enter the zoo with a $20 bill.  How much money did he get in chang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f the whale show lasted 15 minutes, what time was it ov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133200"/>
            <a:ext cx="824256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21:03:23Z</dcterms:created>
  <dc:creator>127lynchk</dc:creator>
  <dc:description/>
  <dc:language>en-US</dc:language>
  <cp:lastModifiedBy>127partidak</cp:lastModifiedBy>
  <dcterms:modified xsi:type="dcterms:W3CDTF">2011-10-14T21:21:27Z</dcterms:modified>
  <cp:revision>6</cp:revision>
  <dc:subject/>
  <dc:title>Monday</dc:title>
</cp:coreProperties>
</file>